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80B-3820-485F-95B5-F230C0CA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A52-8912-4514-A900-0549E15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C30-D63E-4586-B0E0-DB3D0AC4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4FB-F15B-4D83-8F49-B38AA16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3D7D-8238-4239-88AE-AABEC92A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3D4-054F-4BA8-9108-8FFE427E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4E1-B11E-42CC-8CE4-403C9A7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077-1640-4689-992D-62FA344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7E8-8E9B-4D54-9671-84FC7EF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CB64-5415-4569-B624-3644C0F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A8A-EDE7-4F0D-B7ED-A333CA5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76F-9BCE-4E4C-8DC5-8B82762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F9C4-269A-4FB5-B779-185D07F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0EFB-BE09-40F9-BB93-77604AF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F9F-F1A4-47AC-AD9A-9E6A2F8F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F24-8D16-472A-AB3D-F0957C8F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045F-268E-4951-B3F2-4B0DE137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BF5C-A0F9-4A54-869E-27B3FFDF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8D36-E27D-4780-BB72-4FAD718B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CCF4-1960-4341-9B5A-5A83294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20F1-45B6-411B-8F9A-2BCA1F57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71A1-B187-444C-80E8-97F38A9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C43-FE9C-4483-BF11-E2E3A040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5279-E3AD-4D4A-800D-594DB15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510E-E9BF-4212-BD90-B7C6543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0301-D306-4340-A6B9-4AF5ECC8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904E-DB43-426D-9D95-185C1EB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DA65-59AC-40DC-B801-A3BD3C5E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050E-CF7D-4FC2-9270-56AF7EB4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C885-6052-47B6-8635-9C66CD90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9150-7347-4DD7-9498-27EDD0D9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97D2-8564-418D-BDE0-4409501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F37E-92A8-4D77-AC4C-DD07761B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839-768C-468D-B4E0-7E25612A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DE48-6855-4580-8BE0-08929FA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060C-C0F4-4062-83AC-DD49589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74D4-2550-4D67-B192-E852F62A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95AA-7604-4C1A-8A4B-9378ED1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7A5E-5901-4D6E-AEED-4CE45FF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8829-A4C1-4295-9B3E-2A95F96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84DB-5943-406D-BCC0-BF19664C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6D6D-CC02-450E-8F61-75D921B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1E3D-D797-4CB8-AEFC-409544EE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9111-2624-4477-821A-56BB24F1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5A1-2B21-438B-A7F3-02C4AFD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FE9F-DB57-4A2B-BBD4-96E8903F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6695-3FEB-4E4A-A690-FB535A6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9E14-1835-4E93-8317-15177EA5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F691-F00E-4F09-9BE1-6EAED99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194A-B9FF-4193-A231-09EA5CC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327F-34FC-4D95-932F-AA799D2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4C4E-D9ED-42FD-8911-F8BE769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9209-D291-4060-9650-B98937E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2BDF-F7DA-4B93-BC52-0D138DF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F77D-ECD3-415E-825E-7587DFF5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B38-39CF-4240-BB5D-7AE1D35A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66C1D-2CE4-4D0F-B733-012D040F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FA1-57DC-4E63-88D5-AA7FB33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C0F-D082-4D60-8CA1-1B80589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60B-E09E-48DD-8ADA-F08D16F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AFFE-4407-4BE0-842A-58D4319776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3147-CB41-421F-8884-EA19258942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CBB-1435-40CA-AF1F-00B7501092B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83BF-FAB4-46F9-925E-E596943A04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AD4C-FE70-4231-BACD-449DB3AC44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89040" y="1487520"/>
            <a:ext cx="832644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Chapter 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arketing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onstrains establish the upper and lower bound for a price that can be charge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re &amp; how a product is priced within that lower and upper bound depends on the Objectives of the organiz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profi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Sales reven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Market sh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sell a lot of produ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consumer val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be socially responsibl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, finally are they just trying to surviv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emand for a product is a function of two major types of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The price of the product -- Usually the higher the price the lower the dem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Factors other than price, such as consumer tastes, consumer income or the availability and price of other similar or substitutabl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rms to Kn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verag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rgin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asticity of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RGI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calculate the break even point (in units) you nee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FIXED CO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IT VARIABLE COS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LING PRICE PER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Break Even Poin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=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(Selling Price per unit  - Unit Variable cost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CH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much should it c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Marine Atlantic arrive at the cost of a ticket to take the Ferry from NL to 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4" descr="route_map"/>
          <p:cNvPicPr/>
          <p:nvPr/>
        </p:nvPicPr>
        <p:blipFill>
          <a:blip r:embed="rId1"/>
          <a:stretch/>
        </p:blipFill>
        <p:spPr>
          <a:xfrm>
            <a:off x="2819520" y="2743200"/>
            <a:ext cx="1724040" cy="155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2"/>
          <a:srcRect l="1708" t="12001" r="59835" b="35626"/>
          <a:stretch/>
        </p:blipFill>
        <p:spPr>
          <a:xfrm>
            <a:off x="685800" y="3505320"/>
            <a:ext cx="2666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4 basic methods used to set an approximate price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ve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that is picked is set based on the projected demand for the product.  Specific strategies includ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kimming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High price -low volum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enetratio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lower price-high volume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estig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imilar to skimming with snob app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560" y="205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ice lin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different models with different price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Odd-eve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tting prices with odd numbers $499.99 sounds &amp; feels better than $500.00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Demand Backward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Predict sales, set Total revenue target  take total revenue/sales in units =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Bundl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a bundle of complementary products for a single package price - vacation pack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Value-Base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Increase benefits offered for a same or lower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9047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is set based on the approximated cost of bringing the product to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Mark up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The cost of the product is the basis for which the price calculation is bas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Experience Curve Pricing 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As you get better at making products the time and cost to make each one is reduced -- therefore the price can be reduce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Profit Pricing (see calculations in tex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S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Investment Pric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on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Customary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Charge a price that is the “usual” price in the industry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Above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-Below Market Price (Charge a price that differs from the industr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Loss-Leader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ealed Bi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ame as a “Tender” - Suppliers are invited to bid to supply specified product(s) and the lowest bid price wins the d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ep 5 - Set a List P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pecial Adjustments to the List or Quoted Pri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eographical Adjust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- reductions in the lis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ason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ying C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- An effective reduction in the uni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trade in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motional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nstanti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213336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ographical Adjustments - an effective reduction or increase in the unit list price because of your geographical location relative to the suppl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Free-on-Board (FOB)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y will put it on the truck but you pay for the shipping co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Uniform Delivery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 Price is the same wherever you live -- the supplier pays the shipp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gal Aspects of Setting Pr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fix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several suppliers colluding to raise prices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Discrimination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Deceptive Pric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&amp;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ce is a fixed 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alue is a relative term that is measured by the consum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 made up of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Sticker (list) p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offered 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Sales, Mark-downs, Volum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offered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Trade in Allowance, case allow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lu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axe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HST, GST, P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fit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Revenue (Price x Quant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 (Fixed Costs + Variable Cos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eps Involved in </a:t>
            </a:r>
            <a:br>
              <a:rPr sz="4500"/>
            </a:b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etting a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1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dentify Pricing Constraint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2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stimate Demand and Estimat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3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ermine Cost-Volume and Profit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4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Approximate Pric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5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list 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6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ke special Adjustments to Quote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are practical limits under which a company must set its price range for a produ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ness of the product -- where it is in the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 of making and marketing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s involved in changing the prices once they are s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Tilley, Paul (C'ville)</cp:lastModifiedBy>
  <dcterms:modified xsi:type="dcterms:W3CDTF">2012-02-08T15:44:55Z</dcterms:modified>
  <cp:revision>11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